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22D-BE51-4785-B64C-904B220F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B1C-BE63-482C-BBE8-A2DDA15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F1C-09F4-4A6F-AE69-B10155F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96E-A1A8-495E-AF15-25FE7CC7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BCE-58CB-4CCF-99E8-BA331C75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D20-5249-458B-8DE8-C39BE32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F1B-E7EA-44F2-855E-42151F3B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3ED-8845-4207-A855-F7A546C4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9F3-A928-498B-A135-F7ADB0F9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453-1449-481E-9B98-16B6A85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1F5-EC41-4232-9EFF-9FB5AE7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9B2-386C-45C2-AD04-365FF32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130BF-4F7D-4298-B228-1AB33FEDA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92AAB-2694-4D89-855A-3D50A0364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A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B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D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F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occlude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stationary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83160" y="228600"/>
            <a:ext cx="17776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60240" y="19620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48040" y="1974960"/>
            <a:ext cx="177804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629400" y="19620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602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8480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0610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12880" y="5429160"/>
            <a:ext cx="1778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col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warm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stationary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occlude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col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warm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0:48:00Z</dcterms:created>
  <dc:creator>Caroline Roth</dc:creator>
  <dc:description/>
  <dc:language>en-US</dc:language>
  <cp:lastModifiedBy>Caroline Roth</cp:lastModifiedBy>
  <cp:lastPrinted>2011-01-27T04:14:08Z</cp:lastPrinted>
  <dcterms:modified xsi:type="dcterms:W3CDTF">2011-04-27T01:00:45Z</dcterms:modified>
  <cp:revision>7</cp:revision>
  <dc:subject/>
  <dc:title>Slide 1</dc:title>
</cp:coreProperties>
</file>